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8.png" ContentType="image/png"/>
  <Override PartName="/ppt/media/image12.wmf" ContentType="image/x-wmf"/>
  <Override PartName="/ppt/media/image9.wmf" ContentType="image/x-wmf"/>
  <Override PartName="/ppt/media/image13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9F6E1-1B30-403B-82CE-FA61F3A398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3C2D6-37D6-4A55-AA5C-FEC6859558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ACCEB-93D7-49AF-8C21-1B8D9F9C91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47FD-BB90-4206-A507-3A141C6BEE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6F9FE-9475-4919-B849-4CAAC37D2E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062575-6A31-40DB-BC40-1DFD806A3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D1582-2224-4D7E-8603-3F554ACFC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34D91-8BA8-4FAF-800F-4FFA228B4D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AF762-FB8C-4EBF-90CC-20A37A360D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27EE-B3CB-4647-8088-E9B2E1D14E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8A5EF-AC7F-4F5E-A023-3CDEC54BB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38A09-B5B0-462D-9F11-675829EFBD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DC3F5-9843-4456-A701-1BFE5F4BAC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package" Target="../embeddings/oleObject1.xlsx"/><Relationship Id="rId4" Type="http://schemas.openxmlformats.org/officeDocument/2006/relationships/image" Target="../media/image12.wmf"/><Relationship Id="rId5" Type="http://schemas.openxmlformats.org/officeDocument/2006/relationships/slideLayout" Target="../slideLayouts/slideLayout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8084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n Matlab and R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09440" y="3886200"/>
            <a:ext cx="892512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James Ramsay, Professor, McGill U., Montre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Hadley Wickham, Grad student, Iowa State, Ames, IA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pencer Graves, Statistician, PDF Solutions, San José, CA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62E33-858C-49D3-8D8D-E60319108EFF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4800600" cy="14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ther fda capabilit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-360" y="1371600"/>
            <a:ext cx="29718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orrel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ven with series of different lengths!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Phase plane plot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good estimates of derivativ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5400720" y="0"/>
            <a:ext cx="3743280" cy="3743280"/>
          </a:xfrm>
          <a:prstGeom prst="rect">
            <a:avLst/>
          </a:prstGeom>
          <a:ln w="0">
            <a:noFill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2971800" y="3114720"/>
            <a:ext cx="3743280" cy="3743280"/>
          </a:xfrm>
          <a:prstGeom prst="rect">
            <a:avLst/>
          </a:prstGeom>
          <a:ln w="0">
            <a:noFill/>
          </a:ln>
        </p:spPr>
      </p:pic>
      <p:sp>
        <p:nvSpPr>
          <p:cNvPr id="68" name=""/>
          <p:cNvSpPr/>
          <p:nvPr/>
        </p:nvSpPr>
        <p:spPr>
          <a:xfrm>
            <a:off x="6867000" y="4343400"/>
            <a:ext cx="2058120" cy="1281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afda-ch03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1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  <a:ea typeface="MS PGothic"/>
              </a:rPr>
              <a:t>fda-ch02.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EE567-0265-4E86-BB77-C9A6068260D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for fda books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28600" y="1066320"/>
            <a:ext cx="8686800" cy="559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amsay and Silverm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2) Applied Functional Data Analysis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2006) Functional Data Analysis, 2nd ed. (Springer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~R\library\fda\scrip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ome but not all data sets discussed in the books are in the ‘fda’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cript files are available to reproduce some but not all of the analyses in the book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lus CSTR demo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90854-EF73-49A5-B598-6EEA06556BA8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09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DA and Differential Equation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68200" y="1452600"/>
            <a:ext cx="860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ny dynamic systems are believed to follow processes where output changes are a function of the out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, and inputs,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(and unknown parameters </a:t>
            </a:r>
            <a:r>
              <a:rPr b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)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3" name=""/>
              <p:cNvSpPr txBox="1"/>
              <p:nvPr/>
            </p:nvSpPr>
            <p:spPr>
              <a:xfrm>
                <a:off x="1828800" y="3557520"/>
                <a:ext cx="5207040" cy="641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˙"/>
                      </m:accPr>
                      <m:e>
                        <m:r>
                          <m:t xml:space="preserve">x</m:t>
                        </m:r>
                      </m:e>
                    </m:acc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t xml:space="preserve">t</m:t>
                        </m:r>
                      </m:e>
                    </m:d>
                    <m:r>
                      <m:t xml:space="preserve">=</m:t>
                    </m:r>
                    <m:r>
                      <m:t xml:space="preserve">f</m:t>
                    </m:r>
                    <m:d>
                      <m:dPr>
                        <m:begChr m:val="("/>
                        <m:endChr m:val=")"/>
                      </m:dPr>
                      <m:e>
                        <m:r>
                          <m:t xml:space="preserve"> </m:t>
                        </m:r>
                        <m:r>
                          <m:rPr>
                            <m:lit/>
                            <m:nor/>
                          </m:rPr>
                          <m:t xml:space="preserve">x,u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  <m:r>
                          <m:t xml:space="preserve">|</m:t>
                        </m:r>
                        <m:r>
                          <m:t xml:space="preserve"> </m:t>
                        </m:r>
                        <m:r>
                          <m:t xml:space="preserve">θ</m:t>
                        </m:r>
                      </m:e>
                    </m:d>
                    <m:r>
                      <m:t xml:space="preserve">,</m:t>
                    </m:r>
                    <m:r>
                      <m:t xml:space="preserve"> </m:t>
                    </m:r>
                    <m:r>
                      <m:t xml:space="preserve">t</m:t>
                    </m:r>
                    <m:r>
                      <m:t xml:space="preserve">∈</m:t>
                    </m:r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 </m:t>
                        </m:r>
                        <m:r>
                          <m:t xml:space="preserve">0</m:t>
                        </m:r>
                        <m:r>
                          <m:t xml:space="preserve">,</m:t>
                        </m:r>
                        <m:r>
                          <m:t xml:space="preserve">T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74" name=""/>
          <p:cNvSpPr/>
          <p:nvPr/>
        </p:nvSpPr>
        <p:spPr>
          <a:xfrm>
            <a:off x="268200" y="4384800"/>
            <a:ext cx="8607600" cy="21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atlab was designed in part for these types of mod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523BBA-0120-47FD-B7A9-5C76DA37BECA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4400"/>
            <a:ext cx="8229600" cy="10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Squid Neur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60280" y="885960"/>
            <a:ext cx="8623440" cy="524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FitzHugh (1961) - Nagumo et al. (1962) Equations:  Estimate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and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 in: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77" name=""/>
              <p:cNvSpPr txBox="1"/>
              <p:nvPr/>
            </p:nvSpPr>
            <p:spPr>
              <a:xfrm>
                <a:off x="4503600" y="1411200"/>
                <a:ext cx="3633840" cy="1320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V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c</m:t>
                        </m:r>
                        <m:d>
                          <m:dPr>
                            <m:begChr m:val="["/>
                            <m:endChr m:val="]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sSup>
                                  <m:e>
                                    <m:r>
                                      <m:t xml:space="preserve">V</m:t>
                                    </m:r>
                                  </m:e>
                                  <m:sup>
                                    <m:r>
                                      <m:t xml:space="preserve">3</m:t>
                                    </m:r>
                                  </m:sup>
                                </m:sSup>
                                <m:r>
                                  <m:t xml:space="preserve">/</m:t>
                                </m:r>
                                <m:r>
                                  <m:t xml:space="preserve">3</m:t>
                                </m:r>
                              </m:e>
                            </m:d>
                            <m:r>
                              <m:t xml:space="preserve">+</m:t>
                            </m:r>
                            <m:r>
                              <m:t xml:space="preserve">R</m:t>
                            </m:r>
                          </m:e>
                        </m:d>
                      </m:e>
                      <m:e>
                        <m:acc>
                          <m:accPr>
                            <m:chr m:val="˙"/>
                          </m:accPr>
                          <m:e>
                            <m:r>
                              <m:t xml:space="preserve">R</m:t>
                            </m:r>
                          </m:e>
                        </m:acc>
                        <m:r>
                          <m:t xml:space="preserve">=</m:t>
                        </m:r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V</m:t>
                            </m:r>
                            <m:r>
                              <m:t xml:space="preserve">−</m:t>
                            </m:r>
                            <m:r>
                              <m:t xml:space="preserve">a</m:t>
                            </m:r>
                            <m:r>
                              <m:t xml:space="preserve">+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bR</m:t>
                            </m:r>
                          </m:e>
                        </m:d>
                        <m:r>
                          <m:t xml:space="preserve">/</m:t>
                        </m:r>
                        <m:r>
                          <m:t xml:space="preserve">c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78" name=""/>
          <p:cNvSpPr/>
          <p:nvPr/>
        </p:nvSpPr>
        <p:spPr>
          <a:xfrm rot="16200000">
            <a:off x="-332640" y="3155040"/>
            <a:ext cx="191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oltage acros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xon Membran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rot="16200000">
            <a:off x="-364680" y="5426640"/>
            <a:ext cx="1982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covery vi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utward Current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0" name=""/>
          <p:cNvGrpSpPr/>
          <p:nvPr/>
        </p:nvGrpSpPr>
        <p:grpSpPr>
          <a:xfrm>
            <a:off x="1144440" y="2630520"/>
            <a:ext cx="7323120" cy="4124160"/>
            <a:chOff x="1144440" y="2630520"/>
            <a:chExt cx="7323120" cy="4124160"/>
          </a:xfrm>
        </p:grpSpPr>
        <p:pic>
          <p:nvPicPr>
            <p:cNvPr id="81" name="" descr=""/>
            <p:cNvPicPr/>
            <p:nvPr/>
          </p:nvPicPr>
          <p:blipFill>
            <a:blip r:embed="rId1"/>
            <a:stretch/>
          </p:blipFill>
          <p:spPr>
            <a:xfrm>
              <a:off x="1600200" y="2630520"/>
              <a:ext cx="6867360" cy="41241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82" name=""/>
            <p:cNvGrpSpPr/>
            <p:nvPr/>
          </p:nvGrpSpPr>
          <p:grpSpPr>
            <a:xfrm>
              <a:off x="1144440" y="3276720"/>
              <a:ext cx="587520" cy="2737080"/>
              <a:chOff x="1144440" y="3276720"/>
              <a:chExt cx="587520" cy="2737080"/>
            </a:xfrm>
          </p:grpSpPr>
          <p:sp>
            <p:nvSpPr>
              <p:cNvPr id="83" name=""/>
              <p:cNvSpPr/>
              <p:nvPr/>
            </p:nvSpPr>
            <p:spPr>
              <a:xfrm>
                <a:off x="1144800" y="3276720"/>
                <a:ext cx="56484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V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>
                <a:off x="1144440" y="5432400"/>
                <a:ext cx="587520" cy="5814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i="1" lang="en-US" sz="3200" spc="-1" strike="noStrike">
                    <a:solidFill>
                      <a:srgbClr val="000000"/>
                    </a:solidFill>
                    <a:latin typeface="Arial"/>
                  </a:rPr>
                  <a:t>R </a:t>
                </a:r>
                <a:endParaRPr b="0" lang="en-US" sz="3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2BCDD-2168-4E1D-8C3B-E4EB6FC186F6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522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ank React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022400"/>
            <a:ext cx="8229600" cy="488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"/>
          <p:cNvGrpSpPr/>
          <p:nvPr/>
        </p:nvGrpSpPr>
        <p:grpSpPr>
          <a:xfrm>
            <a:off x="611280" y="1727280"/>
            <a:ext cx="7697520" cy="4930920"/>
            <a:chOff x="611280" y="1727280"/>
            <a:chExt cx="7697520" cy="4930920"/>
          </a:xfrm>
        </p:grpSpPr>
        <p:pic>
          <p:nvPicPr>
            <p:cNvPr id="88" name="" descr=""/>
            <p:cNvPicPr/>
            <p:nvPr/>
          </p:nvPicPr>
          <p:blipFill>
            <a:blip r:embed="rId1"/>
            <a:stretch/>
          </p:blipFill>
          <p:spPr>
            <a:xfrm>
              <a:off x="1371600" y="1828800"/>
              <a:ext cx="6937200" cy="4724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9" name=""/>
            <p:cNvSpPr/>
            <p:nvPr/>
          </p:nvSpPr>
          <p:spPr>
            <a:xfrm rot="16200000">
              <a:off x="-1593720" y="3932280"/>
              <a:ext cx="4930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D797C4-C105-4107-B870-AB56B0E038C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167760"/>
            <a:ext cx="883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nctional Data Analysis Proce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36520" y="1216080"/>
            <a:ext cx="8670960" cy="52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Basis Se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lect Smoothing Operat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.g., differential equatio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quivalent to a Bayesian prior over coefficients to estima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coefficients to optimize some objective functi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Model criticism, residual plots, etc.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Hypothesis testing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AF36A-9433-431E-A23E-15B1D68021DA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84240" y="136080"/>
            <a:ext cx="89755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Inputs to Tank Reaction Simul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90640" y="1177920"/>
            <a:ext cx="7362720" cy="5521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9FF69-C8EC-4AA4-9F9F-92A01376A514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mc:AlternateContent>
        <mc:Choice xmlns:a14="http://schemas.microsoft.com/office/drawing/2010/main" Requires="a14">
          <p:sp>
            <p:nvSpPr>
              <p:cNvPr id="94" name=""/>
              <p:cNvSpPr txBox="1"/>
              <p:nvPr/>
            </p:nvSpPr>
            <p:spPr>
              <a:xfrm>
                <a:off x="993600" y="927000"/>
                <a:ext cx="6451920" cy="29116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rPr>
                            <m:lit/>
                            <m:nor/>
                          </m:rPr>
                          <m:t xml:space="preserve">dC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C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/</m:t>
                        </m:r>
                        <m:r>
                          <m:rPr>
                            <m:lit/>
                            <m:nor/>
                          </m:rPr>
                          <m:t xml:space="preserve">dt</m:t>
                        </m:r>
                        <m:r>
                          <m:t xml:space="preserve">=</m:t>
                        </m:r>
                        <m:r>
                          <m:t xml:space="preserve">−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T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r>
                          <m:t xml:space="preserve">C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  <m:r>
                          <m:t xml:space="preserve">+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 </m:t>
                        </m:r>
                        <m:sSub>
                          <m:e>
                            <m:r>
                              <m:t xml:space="preserve">T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κ</m:t>
                        </m:r>
                        <m:r>
                          <m:rPr>
                            <m:lit/>
                            <m:nor/>
                          </m:rPr>
                          <m:t xml:space="preserve">exp</m:t>
                        </m:r>
                        <m:d>
                          <m:dPr>
                            <m:begChr m:val="{"/>
                            <m:endChr m:val="}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−</m:t>
                            </m:r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10</m:t>
                                </m:r>
                              </m:e>
                              <m:sup>
                                <m:r>
                                  <m:t xml:space="preserve">4</m:t>
                                </m:r>
                              </m:sup>
                            </m:sSup>
                            <m:r>
                              <m:t xml:space="preserve">τ</m:t>
                            </m:r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r>
                                  <m:t xml:space="preserve"> 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r>
                                  <m:t xml:space="preserve">T</m:t>
                                </m:r>
                                <m:r>
                                  <m:t xml:space="preserve">−</m:t>
                                </m:r>
                                <m:r>
                                  <m:t xml:space="preserve">1</m:t>
                                </m:r>
                                <m:r>
                                  <m:t xml:space="preserve">/</m:t>
                                </m:r>
                                <m:sSub>
                                  <m:e>
                                    <m:r>
                                      <m:t xml:space="preserve">T</m:t>
                                    </m:r>
                                  </m:e>
                                  <m:sub>
                                    <m:r>
                                      <m:rPr>
                                        <m:lit/>
                                        <m:nor/>
                                      </m:rPr>
                                      <m:t xml:space="preserve">ref</m:t>
                                    </m:r>
                                  </m:sub>
                                </m:sSub>
                              </m:e>
                            </m:d>
                          </m:e>
                        </m:d>
                        <m:r>
                          <m:t xml:space="preserve"> </m:t>
                        </m:r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T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+</m:t>
                        </m:r>
                        <m:sSub>
                          <m:e>
                            <m:r>
                              <m:t xml:space="preserve">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in</m:t>
                            </m:r>
                          </m:sub>
                        </m:sSub>
                      </m:e>
                      <m:e>
                        <m:r>
                          <m:t xml:space="preserve"> 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T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130</m:t>
                        </m:r>
                        <m:sSub>
                          <m:e>
                            <m:r>
                              <m:t xml:space="preserve">β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C</m:t>
                            </m:r>
                          </m:sub>
                        </m:sSub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r>
                              <m:t xml:space="preserve">T</m:t>
                            </m:r>
                            <m:r>
                              <m:t xml:space="preserve">,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in</m:t>
                                </m:r>
                              </m:sub>
                            </m:sSub>
                          </m:e>
                        </m:d>
                      </m:e>
                      <m:e>
                        <m:r>
                          <m:t xml:space="preserve"> </m:t>
                        </m:r>
                        <m:r>
                          <m:t xml:space="preserve">α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</m:e>
                        </m:d>
                        <m:r>
                          <m:t xml:space="preserve">=</m:t>
                        </m:r>
                        <m:sSubSup>
                          <m:e>
                            <m:r>
                              <m:rPr>
                                <m:lit/>
                                <m:nor/>
                              </m:rPr>
                              <m:t xml:space="preserve">aF</m:t>
                            </m:r>
                          </m:e>
                          <m:sub>
                            <m:r>
                              <m:rPr>
                                <m:lit/>
                                <m:nor/>
                              </m:rPr>
                              <m:t xml:space="preserve">co</m:t>
                            </m:r>
                          </m:sub>
                          <m:sup>
                            <m:r>
                              <m:t xml:space="preserve">b</m:t>
                            </m:r>
                            <m:r>
                              <m:t xml:space="preserve">+</m:t>
                            </m:r>
                            <m:r>
                              <m:t xml:space="preserve">1</m:t>
                            </m:r>
                          </m:sup>
                        </m:sSubSup>
                        <m:r>
                          <m:t xml:space="preserve">/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r>
                              <m:t xml:space="preserve"> </m:t>
                            </m:r>
                            <m:sSub>
                              <m:e>
                                <m:r>
                                  <m:t xml:space="preserve">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</m:sSub>
                            <m:r>
                              <m:t xml:space="preserve">+</m:t>
                            </m:r>
                            <m:sSub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aF</m:t>
                                </m:r>
                              </m:e>
                              <m:sub>
                                <m:r>
                                  <m:rPr>
                                    <m:lit/>
                                    <m:nor/>
                                  </m:rPr>
                                  <m:t xml:space="preserve">co</m:t>
                                </m:r>
                              </m:sub>
                              <m:sup>
                                <m:r>
                                  <m:t xml:space="preserve">b</m:t>
                                </m:r>
                              </m:sup>
                            </m:sSubSup>
                            <m:r>
                              <m:t xml:space="preserve">/</m:t>
                            </m:r>
                            <m:r>
                              <m:t xml:space="preserve">2</m:t>
                            </m:r>
                            <m:r>
                              <m:t xml:space="preserve"> </m:t>
                            </m:r>
                          </m:e>
                        </m:d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4 parameters:</m:t>
                        </m:r>
                        <m:r>
                          <m:t xml:space="preserve"> </m:t>
                        </m:r>
                        <m:r>
                          <m:t xml:space="preserve">κ</m:t>
                        </m:r>
                        <m:r>
                          <m:t xml:space="preserve">,</m:t>
                        </m:r>
                        <m:r>
                          <m:t xml:space="preserve">τ</m:t>
                        </m:r>
                        <m:r>
                          <m:t xml:space="preserve">,</m:t>
                        </m:r>
                        <m:r>
                          <m:t xml:space="preserve">a</m:t>
                        </m:r>
                        <m:r>
                          <m:t xml:space="preserve">,</m:t>
                        </m:r>
                        <m:r>
                          <m:t xml:space="preserve">b</m:t>
                        </m:r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120" y="63360"/>
            <a:ext cx="8724600" cy="84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putations:  Nonlinear OD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52280" y="3850920"/>
            <a:ext cx="4678560" cy="286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pute Input vecto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fine func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Call differential equation solv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ummarize, plot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"/>
          <p:cNvGrpSpPr/>
          <p:nvPr/>
        </p:nvGrpSpPr>
        <p:grpSpPr>
          <a:xfrm>
            <a:off x="4776840" y="3472920"/>
            <a:ext cx="4325760" cy="2885760"/>
            <a:chOff x="4776840" y="3472920"/>
            <a:chExt cx="4325760" cy="2885760"/>
          </a:xfrm>
        </p:grpSpPr>
        <p:pic>
          <p:nvPicPr>
            <p:cNvPr id="98" name="" descr=""/>
            <p:cNvPicPr/>
            <p:nvPr/>
          </p:nvPicPr>
          <p:blipFill>
            <a:blip r:embed="rId1"/>
            <a:stretch/>
          </p:blipFill>
          <p:spPr>
            <a:xfrm>
              <a:off x="5045040" y="3543120"/>
              <a:ext cx="4057560" cy="276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 rot="16200000">
              <a:off x="3502440" y="4746960"/>
              <a:ext cx="28857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  <a:ea typeface="MS PGothic"/>
                </a:rPr>
                <a:t>Temperature    Concentration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0" name=""/>
          <p:cNvSpPr/>
          <p:nvPr/>
        </p:nvSpPr>
        <p:spPr>
          <a:xfrm>
            <a:off x="6705720" y="1905120"/>
            <a:ext cx="2209680" cy="1373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e parameters (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5E0493-1212-43E7-B85C-5064E5D0EED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ree problem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295280"/>
            <a:ext cx="8229600" cy="498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imat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(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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Symbol"/>
                <a:ea typeface="Symbol"/>
              </a:rPr>
              <a:t>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, </a:t>
            </a:r>
            <a:r>
              <a:rPr b="0" i="1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b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) to minimize SSE in Temperature onl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3" name=""/>
          <p:cNvGraphicFramePr/>
          <p:nvPr/>
        </p:nvGraphicFramePr>
        <p:xfrm>
          <a:off x="838080" y="2743200"/>
          <a:ext cx="7162920" cy="32623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38080" y="2743200"/>
                    <a:ext cx="7162920" cy="3262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AB116-2A2C-4818-99C7-4F3917DFB84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9360" y="2600280"/>
            <a:ext cx="4724640" cy="3544920"/>
          </a:xfrm>
          <a:prstGeom prst="rect">
            <a:avLst/>
          </a:prstGeom>
          <a:ln w="0">
            <a:noFill/>
          </a:ln>
        </p:spPr>
      </p:pic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0" y="-76680"/>
            <a:ext cx="4952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SE(Temp, Conc)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Matlab:  lsqnonli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48320" y="1981080"/>
            <a:ext cx="4038480" cy="414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:  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819680" y="2362320"/>
            <a:ext cx="4324320" cy="42195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0" name=""/>
          <p:cNvGraphicFramePr/>
          <p:nvPr/>
        </p:nvGraphicFramePr>
        <p:xfrm>
          <a:off x="4724280" y="152280"/>
          <a:ext cx="4419720" cy="12528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11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4724280" y="152280"/>
                    <a:ext cx="4419720" cy="1252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BDCE4-FA54-4030-B520-6E4BD7526510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utlin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254160" y="1198440"/>
            <a:ext cx="8635680" cy="549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What is Functional Data Analysis?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DA and Differential Equ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amples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: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quid Neur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Continuously Stirred Tank Reactor (CSTR)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C8B2B-8B31-4B67-B037-F01846284BE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R vs. Matlab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914040"/>
            <a:ext cx="8534160" cy="521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Ga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code for CSTR slightly more accurate but requires much more compute tim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ded by different peopl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has helper functions not so easily replicated in Matlab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summary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nfint.nl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profile.n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3620160" y="4267080"/>
            <a:ext cx="5529960" cy="14655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imate Std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(&gt;|t|)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kref   0.466  0.004 113.0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overR 0.8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4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0.0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9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94.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      1.7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0  0.23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2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7.4  8.2e-13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      0.496  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5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  <a:ea typeface="MS PGothic"/>
              </a:rPr>
              <a:t>10.0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&lt; 2e-16 **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76720" y="4419720"/>
            <a:ext cx="30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BA0E7-241E-4F5C-9DD0-B73B0AE487D6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fint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52280" y="1066680"/>
            <a:ext cx="8839440" cy="505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kelihood-based confidence intervals:  generally more accurate than Wald interval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ld subject to parameter effects curvatur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kelihood:  only affected by intrinsic curvatur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12680" y="3352680"/>
            <a:ext cx="48135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&gt; confintNlsFi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      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 </a:t>
            </a:r>
            <a:r>
              <a:rPr b="1" lang="en-US" sz="3200" spc="-1" strike="noStrike" u="sng">
                <a:solidFill>
                  <a:srgbClr val="000000"/>
                </a:solidFill>
                <a:uFillTx/>
                <a:latin typeface="Courier New"/>
              </a:rPr>
              <a:t>2.5%  97.5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kref   0.458  0.47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EoverR 0.823  0.85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a      1.300  2.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</a:rPr>
              <a:t>b      0.401  0.59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56FF6-DF22-45BD-B7D4-DA7EBCC64310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lot.profile.nl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304920" y="1066680"/>
            <a:ext cx="3657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r a plot showing the sqrt(log(LR)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4183200" y="76212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123" name=""/>
          <p:cNvSpPr/>
          <p:nvPr/>
        </p:nvSpPr>
        <p:spPr>
          <a:xfrm>
            <a:off x="5201280" y="2685960"/>
            <a:ext cx="97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kref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7371000" y="2685960"/>
            <a:ext cx="153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over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48316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7935840" y="5257800"/>
            <a:ext cx="406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425200" y="183672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425200" y="8841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7926840" y="157176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7926840" y="365760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336280" y="38480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MS PGothic"/>
              </a:rPr>
              <a:t>9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45558-6B9A-4EB3-BB3E-11032A8703B5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clusion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and Matlab give comparable answer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:nls has helper functions absent from Matlab:lsqnonli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unctional data analysis tools are key f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estimating derivatives an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working with differential operator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EABC0-4F47-45FB-B3D2-24998EE567F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1584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ferenc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54160" y="1263240"/>
            <a:ext cx="8635680" cy="5427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www.functionaldata.org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 and Silverman (2006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Functional Data Analysis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, 2nd ed. (Springer)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________(2002)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Applied Functional Data Analysis 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(Springer)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Ramsay, J. O., Hooker, G., Cao, J. and Campbell, D. (2007) Parameter estimation for differential equations: A generalized smoothing approach (with discussion). </a:t>
            </a:r>
            <a:r>
              <a:rPr b="0" i="1" lang="en-US" sz="3000" spc="-1" strike="noStrike">
                <a:solidFill>
                  <a:srgbClr val="000000"/>
                </a:solidFill>
                <a:latin typeface="Arial"/>
              </a:rPr>
              <a:t>Journal of the Royal Statistical Society, Series B</a:t>
            </a: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. To appear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35F4E-0925-48D6-B3E3-D2DE093B08D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NOT free-knot splin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For this, se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DierckxSpline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  <a:ea typeface="MS PGothic"/>
              </a:rPr>
              <a:t> packag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Companion to Dierckx, P. (1993). Curve and Surface Fitting with Splines. Oxford Science Publications, New York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R package by Sundar Dorai-Raj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MS PGothic"/>
              </a:rPr>
              <a:t>links to Fortran code by Dierckx available from www.netlib.org/dierck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oon to appear on CRA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AD176-D93E-4222-A9B2-3FA561B6D504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What is FDA?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31920" y="1360440"/>
            <a:ext cx="8480160" cy="500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unctional data analysis is a collection of techniques to model data from dynamic system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ssibly governed by differential equa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erms of some set of basis function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‘fda’ package supports the use of 8 different types of basis functions:  constant, monomial, polynomial, polygonal, B-splines, power, exponential, and Fouri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E14D7-9542-4B95-85DF-99C8B166433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274320"/>
            <a:ext cx="83822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s of different length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371240"/>
            <a:ext cx="8229600" cy="475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Observation vectors of different lengths can be mapped to coordinates of a fixed basis s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All examples in the ‘fda’ package have the same numbers of observation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No conceptual obstacles to handling observation vectors of different length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68745-4658-4B85-8517-4AC77880612A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  <a:ea typeface="MS PGothic"/>
              </a:rPr>
              <a:t>Time Warping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9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start” and “stop” are sometimes determined by certain transition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PGothic"/>
              </a:rPr>
              <a:t>Example:  growth spurts in the life cycle of various species do not occur at exactly the same ages in different individuals (even within the same species)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5814A-988B-4742-A177-B8F926855572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52280" y="0"/>
            <a:ext cx="88394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0 Girls:  Berkeley Growth Stud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-360" y="838080"/>
            <a:ext cx="33526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uddenham, R. D., and Snyder, M. M. (1954) "Physical growth of California boys and girls from birth to age 18", _University of California Publications in Child Development_, 1, 183-364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3276720" y="152280"/>
            <a:ext cx="4960800" cy="49611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E8DA-9E5E-4654-AB30-9C05DDCC70E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3657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ccele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0" y="838080"/>
            <a:ext cx="26668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owth spurts occur at different 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verage shows the basic trend, but features are damped by improper registr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200400" y="-685800"/>
            <a:ext cx="4960800" cy="496080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3200400" y="1897200"/>
            <a:ext cx="4960800" cy="4960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A3FCA-5AEE-4E4D-8306-62036BD3D35A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-360" y="0"/>
            <a:ext cx="35053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gistration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-360" y="914400"/>
            <a:ext cx="2514600" cy="444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gister.fd all to the mea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perfect, but bette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3352680" y="-914400"/>
            <a:ext cx="4654800" cy="465444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2"/>
          <a:stretch/>
        </p:blipFill>
        <p:spPr>
          <a:xfrm>
            <a:off x="3352680" y="2666880"/>
            <a:ext cx="4654800" cy="465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2EC3B-8739-4C23-BEF2-0951F88E289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 Stroll Along the Beac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ght intensity over 365 days at each of 190*143 = 27140 pixels w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moothed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al principal component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ttp://www.stat.berkeley.edu/~wickham/userposter.pdf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81F7C-3F5F-47B3-A042-9B38A159A27C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4-14T16:39:51Z</dcterms:created>
  <dc:creator>spencerg</dc:creator>
  <dc:description/>
  <dc:language>en-US</dc:language>
  <cp:lastModifiedBy>spencerg</cp:lastModifiedBy>
  <dcterms:modified xsi:type="dcterms:W3CDTF">2007-08-10T14:02:39Z</dcterms:modified>
  <cp:revision>192</cp:revision>
  <dc:subject/>
  <dc:title>Functional Data Analysis  in Matlab and R </dc:title>
</cp:coreProperties>
</file>