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19.wmf" ContentType="image/x-wmf"/>
  <Override PartName="/ppt/media/image1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C1361-EFCE-4299-B679-48B78A2770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7BBF9-6F69-430F-9CA6-74A45F6E75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0F038-F655-470B-8273-2FE2067EBA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0012A-3BA0-4A72-B99E-09265C2384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AF904-BC31-4575-948D-6ECDD8B16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ABFB2-549D-4213-9B25-AF84314B1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AEE9E-354A-4528-BF32-AC7495D961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334E5-9B9E-4BA7-BA5A-F6AC99AACE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5F96C-128E-40E8-B20B-4A7357F78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B8E5E-4D02-4FA7-8060-7E2B4D6F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03DEE-F06C-47AB-9079-0DF71E5381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813F8-4715-4620-834C-3F84833E3E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E87E88-B093-40E0-9846-136C04E5EC1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slideLayout" Target="../slideLayouts/slideLayout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STR_demo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&amp;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71275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6090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 = 1.83244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 = 0.0569227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8) [no figure(7)]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8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30481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86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Temperature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Temp = 0.09789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Temp = 0.02590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 failed to solve the problem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:  stepsize &lt; min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tim(Nelder-Mead, BFGS, CG) NA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minb:  claimed convergence too close to starting valu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 EoverR    a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: 0.45767  0.83001  1.7108  0.48561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70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2803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29777 0.8369693 1.623520 0.51270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HConc = 0.09342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errpctHConc = 0.0124197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stimated from Concentration Only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-5040" y="1600200"/>
            <a:ext cx="4653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0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495680" y="1600200"/>
            <a:ext cx="464832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-152280" y="3833640"/>
            <a:ext cx="4032000" cy="302436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st fig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gure(1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48320" y="1219320"/>
            <a:ext cx="403848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c:  better fit from Matlab than R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>
            <a:off x="0" y="3505320"/>
            <a:ext cx="4032360" cy="3024000"/>
          </a:xfrm>
          <a:prstGeom prst="rect">
            <a:avLst/>
          </a:prstGeom>
          <a:ln w="0">
            <a:noFill/>
          </a:ln>
        </p:spPr>
      </p:pic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1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2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2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0" y="34290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3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3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4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4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495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(CSTR_fig4.Rdata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0" y="3352680"/>
            <a:ext cx="4125960" cy="310068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5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5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0" y="320040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4560" y="1599840"/>
            <a:ext cx="4190760" cy="480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(1)/s(4)) = 3.01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(1)/s12(2)) = 0.826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(1)/s13(2)) = 1.17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(1)/s34(2)) = 2.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(1)/s123(3)) = 1.23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47960" y="1600200"/>
            <a:ext cx="41907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[1]/s[4]) = 3.01901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[1]/s12[2]) = 0.82606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3[1]/s13[2]) = 1.17893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34[1]/s34[2]) = 2.1199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[1]/s123[3]) = 1.23572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sqnonlin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(1)/s1234(4)) = 3.014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                  </a:t>
            </a: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kref    EoverR     a       b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Initial   values: 0.4      0.8      1.7  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Estimated values: 0.46617  0.83961  1.7014  0.50021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24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Courier New"/>
              </a:rPr>
              <a:t>True      values: 0.461    0.83301  1.678   0.5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errpct1234o = 0.1149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43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48320" y="1599840"/>
            <a:ext cx="403848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ls .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og10(s1234[1]/s1234[4]) = 3.01729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                    </a:t>
            </a: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kref    EoverR        a         b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Initial values   0.4000000 0.8000000 1.700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Estimated values 0.4661415 0.8397917 1.718248 0.4963714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201"/>
              </a:spcBef>
              <a:buClr>
                <a:srgbClr val="000000"/>
              </a:buClr>
              <a:buFont typeface="Courier Ne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Courier New"/>
              </a:rPr>
              <a:t>True valules     0.4610000 0.8330100 1.678000 0.5000000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rrpct1234o =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0.11451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errpct1234o = 0.0263553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igure(6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ve CSTR_fig6Matlab -v6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" descr=""/>
          <p:cNvPicPr/>
          <p:nvPr/>
        </p:nvPicPr>
        <p:blipFill>
          <a:blip r:embed="rId1"/>
          <a:stretch/>
        </p:blipFill>
        <p:spPr>
          <a:xfrm>
            <a:off x="0" y="3276720"/>
            <a:ext cx="4125960" cy="3100320"/>
          </a:xfrm>
          <a:prstGeom prst="rect">
            <a:avLst/>
          </a:prstGeom>
          <a:ln w="0">
            <a:noFill/>
          </a:ln>
        </p:spPr>
      </p:pic>
      <p:pic>
        <p:nvPicPr>
          <p:cNvPr id="78" name="" descr=""/>
          <p:cNvPicPr/>
          <p:nvPr/>
        </p:nvPicPr>
        <p:blipFill>
          <a:blip r:embed="rId2"/>
          <a:stretch/>
        </p:blipFill>
        <p:spPr>
          <a:xfrm>
            <a:off x="4183200" y="1897200"/>
            <a:ext cx="4960800" cy="496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0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7-09T15:34:43Z</dcterms:created>
  <dc:creator>spencerg</dc:creator>
  <dc:description/>
  <dc:language>en-US</dc:language>
  <cp:lastModifiedBy>spencerg</cp:lastModifiedBy>
  <dcterms:modified xsi:type="dcterms:W3CDTF">2007-07-13T03:57:10Z</dcterms:modified>
  <cp:revision>120</cp:revision>
  <dc:subject/>
  <dc:title>Slide 1</dc:title>
</cp:coreProperties>
</file>